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55E-8E46-4600-9DB4-8B447C02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2FE-D345-4A23-848E-397D032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179-7552-4CE1-ACAF-DBD9FE25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54C-C71C-4E03-AAD0-CE18ABC6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203E-DD31-489E-AC99-67D313D1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9AEC-0795-45DE-A3A2-71F35FCB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5BEC-CA50-423C-8731-73EBDDE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691A-7AA3-400C-92AD-2DD8C84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805F-BE1D-4458-8DDF-6C11A5EB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C391-74F7-4BFF-A120-37CBC669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536B-6712-407E-8B18-10A380E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2D8-D5B2-4E86-935F-5464B705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57F9-2124-4C7E-B79E-903824B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3822-D036-41AD-BD12-B97669D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950-0451-4459-9535-02DFBE1A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17FD-8A30-4EEA-BAA7-85B3917D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1437-AF12-499F-8717-AA5CD9EC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E90-B94B-4ED8-9EAB-0FCB1DD4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EBD-CE2A-4AE3-B55A-466034FB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16B-ACA6-4535-8574-8ECEA613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FC0-75AA-4EFB-B655-1CF58243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966-0F6C-46EA-8D5C-2656DD85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954-24E9-4853-9A36-56E3FBD4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088-057F-4545-9565-F760881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FB1D-B9D9-4243-8311-700A6DDB85FA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305E-154C-43E0-BA56-D27DC1982C58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La danse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a danse est mon sport préféré parce que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exprimer mes émotions à travers el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 peux également avoir une meilleure forme physiqu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37320" y="3789360"/>
            <a:ext cx="1808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 le pratique de manière ludique ou compétitive ?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l y a six ans, je pratiquais ce sport de façon compéti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aintenant, c’est ludique, parce que je n’ai plus le temps, ni l’argent pour faire de la compétition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448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18T18:49:56Z</dcterms:modified>
  <cp:revision>10</cp:revision>
  <dc:subject/>
  <dc:title>Le chien</dc:title>
</cp:coreProperties>
</file>